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25A5-8618-4E23-B794-0F903EC4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6E24-FAD7-4A9E-81BA-F1A0AF96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91CA-FD1C-4483-A843-CAE844FA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D4F7-F25A-4337-BE33-A0DF9862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1D20-CA74-45C1-8BBD-D34EA513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2319-03C4-44BC-9E8A-378EB31B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62C-878C-4B6F-8884-4609BF04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D3AA-123E-4C09-93D0-4A3DF97C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8931-EAC5-4888-AC7C-B0321538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36C6-4F6F-4F65-8909-A59A7A46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F65A-F54C-4AD2-B3A8-D0892739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066-7C68-47E8-9BF3-B20C2CF7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19A4-1BF5-4841-B052-A3B5B78A744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980640"/>
            <a:ext cx="8424720" cy="482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ب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 أساليب التحليل الكمي المستخ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تحليل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5623-0DE8-4303-AA11-9A2DCD95A611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تحل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455920"/>
            <a:ext cx="358164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مشر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809880"/>
            <a:ext cx="3581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صنا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15772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ستوى العالم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A1FD-53E9-4F8C-A48C-1FEBD276A8E4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41600" y="1477800"/>
            <a:ext cx="7660800" cy="10314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ساليب المستخدم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6560" y="3366720"/>
            <a:ext cx="7585200" cy="2162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قارنات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عدلات التغ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توسط النس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5218-DB87-4B86-AEC0-D06888C8E8DE}" type="slidenum">
              <a:t>3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203120"/>
            <a:ext cx="7772760" cy="763920"/>
          </a:xfrm>
          <a:prstGeom prst="rect">
            <a:avLst/>
          </a:prstGeom>
          <a:gradFill rotWithShape="0">
            <a:gsLst>
              <a:gs pos="0">
                <a:srgbClr val="e7e5e1"/>
              </a:gs>
              <a:gs pos="50000">
                <a:srgbClr val="ffffcc"/>
              </a:gs>
              <a:gs pos="100000">
                <a:srgbClr val="e7e5e1"/>
              </a:gs>
            </a:gsLst>
            <a:lin ang="5400000"/>
          </a:gra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نزعة المركزية (المتوسطا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492280"/>
            <a:ext cx="7772400" cy="381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توسط  = المجموع/العدد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خاصة على مستوى الصنا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وسيط = عدد المرات +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/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نوال = القيمة الاكثر شيوع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D80A-333B-46BC-9C3E-6F4D5B005A67}" type="slidenum">
              <a:t>4</a:t>
            </a:fld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1280" y="1699920"/>
            <a:ext cx="7772760" cy="912240"/>
          </a:xfrm>
          <a:prstGeom prst="rect">
            <a:avLst/>
          </a:prstGeom>
          <a:gradFill rotWithShape="0">
            <a:gsLst>
              <a:gs pos="0">
                <a:srgbClr val="c7cfc1"/>
              </a:gs>
              <a:gs pos="50000">
                <a:srgbClr val="ffffff"/>
              </a:gs>
              <a:gs pos="100000">
                <a:srgbClr val="c7cfc1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اختلاف والتش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1400" y="3571920"/>
            <a:ext cx="7716960" cy="23781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7e5e1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عرفة مدى تجمع قيم النسب المالية أو تشتتها حول المتوسط الحسابي عن طريق حساب الانحراف المعياري لكل نسبة من النس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CFD1-0740-4C1A-A174-76A630E17770}" type="slidenum">
              <a:t>5</a:t>
            </a:fld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1058760"/>
            <a:ext cx="77727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اقات الارتباط والانحد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2920" y="2427120"/>
            <a:ext cx="8893080" cy="40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رتباط هو التلازم بين متغيرين تلازما كميا بحيث تؤدي الزيادة في أحد المتغيرين الى زيادة المتغير الآخر أو العك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يقاس عن طريق حساب معامل ارتباط بيرسون أو سبيرم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قربه من الواحد الصحيح يشير الى وجود ارتباط قوي موجب بين المتغي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64166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199-8953-4B87-83B9-9E477C3F4AD2}" type="slidenum">
              <a:t>6</a:t>
            </a:fld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Abu-Ali</cp:lastModifiedBy>
  <dcterms:modified xsi:type="dcterms:W3CDTF">2004-04-06T17:12:41Z</dcterms:modified>
  <cp:revision>22</cp:revision>
  <dc:subject/>
  <dc:title>التحليل المالي والائتماني</dc:title>
</cp:coreProperties>
</file>